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391-4797-4423-9D36-169B3A34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4CA-D521-4487-B8F1-8BF7083D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6B0-77F3-4172-9665-FD2855BB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257-8764-4A9F-9007-AC3855ED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FE1-32EC-4E3E-BB76-4323C810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DC4-A421-4DB9-999C-C652BF22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E1F-C5B2-4029-BB49-3EA60F8E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DF5-C50C-4B23-BC48-14AD7B61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1C2-7287-48E5-93FC-C6D2C6FC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1F5-76BB-4675-83CA-8AABF70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A3E-107E-45C4-A701-0810CC3D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B92-E4DF-4C63-8885-EF2798D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i Do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0A49-122F-4379-B586-F70316C8E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Skittles anyone?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By: Andi Dowel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Introduction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Have you ever been eating Skittles and ate a lot of one flavor? Have you wanted more of one flavor before? This experiment will help you know what color/ flavor is used more in Skittles.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Problem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What color/ flavor shows up most in the Skittles Original?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Hypothesis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My hypothesis is that strawberry or the red color will show up more than the other colors/ flavors.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Materials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A minimum of 10 bags of Skittles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397200">
            <a:off x="4266720" y="2666880"/>
            <a:ext cx="12510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Procedure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Gather all Material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unt all the green Skittl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unt all the red Skittl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unt all the orange Skittl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unt all the purple Skittl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unt all the yellow Skittl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Write the results down 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ntinue with the other bag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Results (Out of 10 bags)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Red- 113- 18.9%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Yellow- 143- 23.9%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Green- 112- 18.8%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Orange- 113- 18.9%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Purple- 115- 19.3%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Total- 596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Conclusion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My hypothesis was really wrong. I was really surprised about how the results came out. Almost everyone I surveyed thought that red was the most. Surprisingly, yellow has about 30 more than everything else.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5:06:24Z</dcterms:created>
  <dc:creator>USD376</dc:creator>
  <dc:description/>
  <dc:language>en-US</dc:language>
  <cp:lastModifiedBy>USD376</cp:lastModifiedBy>
  <dcterms:modified xsi:type="dcterms:W3CDTF">2011-02-16T20:24:21Z</dcterms:modified>
  <cp:revision>5</cp:revision>
  <dc:subject/>
  <dc:title>Skittles anyone?</dc:title>
</cp:coreProperties>
</file>